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93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00C129-C37C-484D-A403-5BAA217C84A2}" type="datetime">
              <a:rPr b="0" lang="en-GB" sz="13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28560" y="552600"/>
            <a:ext cx="3575160" cy="26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05360"/>
            <a:ext cx="4435560" cy="393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9240" y="6705360"/>
            <a:ext cx="4435200" cy="393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C95771-EC17-4BD5-BE84-49F3706AD05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5FA52E-B420-4414-90CA-FFAA38E35470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2B18B0-9F47-4D4B-8A85-2F8BAD7E37D6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2A6D1B-6DF6-445E-95BA-FEE6FE97465A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738385-B397-4922-B94C-811F96EEA991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FEF2A8-1B4D-4E4E-8654-D35CDBBB8173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D44220-B362-4DE5-808B-B522657CA4CA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8A0389-1F80-4E9D-B5DE-4482F5AC3226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2C7177-E877-4991-B2E0-DCC8E993B023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F98C6D-4BC0-4AE2-8482-D5C810F36302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CA2083-21A7-43C3-993D-EC40B33E90A3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326F9A-DF37-4E3D-98D0-8ECE4502B2C7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6E6129-0617-462D-BFC0-B6A643C80816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5799240" y="0"/>
            <a:ext cx="443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2DC98F-E41C-435B-9181-A79394EBA052}" type="datetime">
              <a:rPr b="0" lang="en-GB" sz="1300" spc="-1" strike="noStrike">
                <a:solidFill>
                  <a:srgbClr val="ffffff"/>
                </a:solidFill>
                <a:latin typeface="Arial"/>
              </a:rPr>
              <a:t>29/07/26</a:t>
            </a:fld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6705720"/>
            <a:ext cx="44355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328920" y="552600"/>
            <a:ext cx="3575160" cy="2681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364760" y="3392640"/>
            <a:ext cx="75042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085-2DDC-44E6-8DCA-83E56C10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371-8C3E-43CA-9D62-C50478FF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1D7-4E53-4FB5-80A7-EAE5469D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416-3267-449A-BBCD-6F0855CF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A89-A65A-4707-9BE6-6E4C5009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651-699B-4839-B6ED-39EE9DDE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70F-59E6-40B9-A963-A3A94C7C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190-A9F7-49C0-8205-78DB156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61B-56D6-427E-9EC1-51A6D07D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A08-3A5E-4D46-B577-E73E9DA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AC0-2B9E-4495-AFAF-56D6AC65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AEC-87E5-44DF-8B68-5FA7CC80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345-9F71-4265-AB59-76E593120C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DE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BCB1-4DCD-477F-B1E0-B8DF521464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069-6917-40A6-8518-4947863B66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1066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00000" y="2349360"/>
            <a:ext cx="79916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olitical Public Opin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 Montenegro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, 2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6880" y="915840"/>
            <a:ext cx="8686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12" descr="CEDEM logo eng.jpg"/>
          <p:cNvPicPr/>
          <p:nvPr/>
        </p:nvPicPr>
        <p:blipFill>
          <a:blip r:embed="rId1"/>
          <a:stretch/>
        </p:blipFill>
        <p:spPr>
          <a:xfrm>
            <a:off x="3059280" y="0"/>
            <a:ext cx="279396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593-97E4-4B53-975E-C3E8209BC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332000" y="1159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CONFIDENCE IN TV STATIONS </a:t>
            </a:r>
            <a:r>
              <a:rPr b="0" lang="sr-Latn-CS" sz="2800" spc="-1" strike="noStrike">
                <a:solidFill>
                  <a:srgbClr val="231f20"/>
                </a:solidFill>
                <a:latin typeface="Arial"/>
              </a:rPr>
              <a:t>– </a:t>
            </a:r>
            <a:r>
              <a:rPr b="1" lang="sr-Latn-CS" sz="2800" spc="-1" strike="noStrike">
                <a:solidFill>
                  <a:srgbClr val="231f20"/>
                </a:solidFill>
                <a:latin typeface="Arial"/>
              </a:rPr>
              <a:t>TREND</a:t>
            </a:r>
            <a:r>
              <a:rPr b="1" lang="en-US" sz="2800" spc="-1" strike="noStrike">
                <a:solidFill>
                  <a:srgbClr val="231f20"/>
                </a:solidFill>
                <a:latin typeface="Arial"/>
              </a:rPr>
              <a:t>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Chart 4" descr=""/>
          <p:cNvPicPr/>
          <p:nvPr/>
        </p:nvPicPr>
        <p:blipFill>
          <a:blip r:embed="rId1"/>
          <a:stretch/>
        </p:blipFill>
        <p:spPr>
          <a:xfrm>
            <a:off x="317520" y="1547640"/>
            <a:ext cx="850896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AC1-7841-4026-8B65-92B54FD169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8600" y="1066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95280" y="33336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CONFIDENCE IN DAILY PRESS </a:t>
            </a:r>
            <a:r>
              <a:rPr b="0" lang="sr-Latn-CS" sz="2800" spc="-1" strike="noStrike">
                <a:solidFill>
                  <a:srgbClr val="231f20"/>
                </a:solidFill>
                <a:latin typeface="Arial"/>
              </a:rPr>
              <a:t>-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Chart 7" descr=""/>
          <p:cNvPicPr/>
          <p:nvPr/>
        </p:nvPicPr>
        <p:blipFill>
          <a:blip r:embed="rId1"/>
          <a:stretch/>
        </p:blipFill>
        <p:spPr>
          <a:xfrm>
            <a:off x="603360" y="1122480"/>
            <a:ext cx="793728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DD3D-9105-466B-9907-791F018E78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28600" y="1066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26880" y="91584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042920" y="2858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DAILY PRESS</a:t>
            </a:r>
            <a:r>
              <a:rPr b="0" lang="sr-Latn-CS" sz="2800" spc="-1" strike="noStrike">
                <a:solidFill>
                  <a:srgbClr val="231f20"/>
                </a:solidFill>
                <a:latin typeface="Arial"/>
              </a:rPr>
              <a:t>: </a:t>
            </a:r>
            <a:r>
              <a:rPr b="1" lang="sr-Latn-CS" sz="2800" spc="-1" strike="noStrike">
                <a:solidFill>
                  <a:srgbClr val="231f20"/>
                </a:solidFill>
                <a:latin typeface="Arial"/>
              </a:rPr>
              <a:t>TREND -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hart 6" descr=""/>
          <p:cNvPicPr/>
          <p:nvPr/>
        </p:nvPicPr>
        <p:blipFill>
          <a:blip r:embed="rId1"/>
          <a:stretch/>
        </p:blipFill>
        <p:spPr>
          <a:xfrm>
            <a:off x="390600" y="1335240"/>
            <a:ext cx="8362800" cy="44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4E7C-3375-4029-AA73-848422AFF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1280" y="189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CE IN RADIO STATIONS -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Chart 3" descr=""/>
          <p:cNvPicPr/>
          <p:nvPr/>
        </p:nvPicPr>
        <p:blipFill>
          <a:blip r:embed="rId1"/>
          <a:stretch/>
        </p:blipFill>
        <p:spPr>
          <a:xfrm>
            <a:off x="676440" y="1335240"/>
            <a:ext cx="80769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053B-019A-439F-9A6A-EB6A77289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748520" y="4762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DIO STATIONS - TREND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Chart 3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80773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DEDE-3C9A-45ED-A274-30EC3CDDB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228600" y="1066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89000" y="712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In your opinion, should Montenegro access the European Union</a:t>
            </a:r>
            <a:r>
              <a:rPr b="0" lang="sr-Latn-CS" sz="2800" spc="-1" strike="noStrike">
                <a:solidFill>
                  <a:srgbClr val="231f20"/>
                </a:solidFill>
                <a:latin typeface="Arial"/>
              </a:rPr>
              <a:t>? -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hart 8" descr=""/>
          <p:cNvPicPr/>
          <p:nvPr/>
        </p:nvPicPr>
        <p:blipFill>
          <a:blip r:embed="rId1"/>
          <a:stretch/>
        </p:blipFill>
        <p:spPr>
          <a:xfrm>
            <a:off x="963720" y="1620720"/>
            <a:ext cx="7431120" cy="40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73E5-F967-4611-AD2A-A3F1D73F5B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6880" y="91584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042920" y="33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SUPPORT TO THE EU</a:t>
            </a:r>
            <a:r>
              <a:rPr b="0" lang="sr-Latn-CS" sz="2800" spc="-1" strike="noStrike">
                <a:solidFill>
                  <a:srgbClr val="231f20"/>
                </a:solidFill>
                <a:latin typeface="Arial"/>
              </a:rPr>
              <a:t>: </a:t>
            </a:r>
            <a:r>
              <a:rPr b="1" lang="sr-Latn-CS" sz="2800" spc="-1" strike="noStrike">
                <a:solidFill>
                  <a:srgbClr val="231f20"/>
                </a:solidFill>
                <a:latin typeface="Arial"/>
              </a:rPr>
              <a:t>TREND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Chart 5" descr=""/>
          <p:cNvPicPr/>
          <p:nvPr/>
        </p:nvPicPr>
        <p:blipFill>
          <a:blip r:embed="rId1"/>
          <a:stretch/>
        </p:blipFill>
        <p:spPr>
          <a:xfrm>
            <a:off x="390600" y="1620720"/>
            <a:ext cx="8508960" cy="41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864-8979-4E95-816F-299CF27C48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042920" y="712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If tomorrow you are to vote on Montenegrin membership in NATO, your answer would be?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Chart 5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7858440" cy="4548240"/>
          </a:xfrm>
          <a:prstGeom prst="rect">
            <a:avLst/>
          </a:prstGeom>
          <a:ln w="0">
            <a:noFill/>
          </a:ln>
        </p:spPr>
      </p:pic>
      <p:pic>
        <p:nvPicPr>
          <p:cNvPr id="109" name="Chart 4" descr=""/>
          <p:cNvPicPr/>
          <p:nvPr/>
        </p:nvPicPr>
        <p:blipFill>
          <a:blip r:embed="rId2"/>
          <a:stretch/>
        </p:blipFill>
        <p:spPr>
          <a:xfrm>
            <a:off x="822240" y="1547640"/>
            <a:ext cx="721224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7AC-5B21-45B7-8853-6D1B763829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071720" y="46080"/>
            <a:ext cx="7286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31f20"/>
                </a:solidFill>
                <a:latin typeface="Times New Roman"/>
              </a:rPr>
              <a:t>TREND</a:t>
            </a:r>
            <a:r>
              <a:rPr b="1" lang="sr-Latn-CS" sz="2600" spc="-1" strike="noStrike">
                <a:solidFill>
                  <a:srgbClr val="231f20"/>
                </a:solidFill>
                <a:latin typeface="Times New Roman"/>
              </a:rPr>
              <a:t>: </a:t>
            </a:r>
            <a:br>
              <a:rPr sz="2600"/>
            </a:br>
            <a:r>
              <a:rPr b="1" lang="en-GB" sz="2600" spc="-1" strike="noStrike">
                <a:solidFill>
                  <a:srgbClr val="231f20"/>
                </a:solidFill>
                <a:latin typeface="Times New Roman"/>
              </a:rPr>
              <a:t>YES </a:t>
            </a:r>
            <a:r>
              <a:rPr b="0" lang="en-GB" sz="2600" spc="-1" strike="noStrike">
                <a:solidFill>
                  <a:srgbClr val="231f20"/>
                </a:solidFill>
                <a:latin typeface="Times New Roman"/>
              </a:rPr>
              <a:t>on the referendum</a:t>
            </a:r>
            <a:r>
              <a:rPr b="0" lang="sr-Latn-CS" sz="2600" spc="-1" strike="noStrike">
                <a:solidFill>
                  <a:srgbClr val="231f2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231f20"/>
                </a:solidFill>
                <a:latin typeface="Times New Roman"/>
              </a:rPr>
              <a:t>IN FAVOUR and AGAINST</a:t>
            </a:r>
            <a:r>
              <a:rPr b="0" lang="sr-Latn-CS" sz="2600" spc="-1" strike="noStrike">
                <a:solidFill>
                  <a:srgbClr val="231f20"/>
                </a:solidFill>
                <a:latin typeface="Times New Roman"/>
              </a:rPr>
              <a:t> NATO - %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Chart 5" descr=""/>
          <p:cNvPicPr/>
          <p:nvPr/>
        </p:nvPicPr>
        <p:blipFill>
          <a:blip r:embed="rId1"/>
          <a:stretch/>
        </p:blipFill>
        <p:spPr>
          <a:xfrm>
            <a:off x="536400" y="1407960"/>
            <a:ext cx="793116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liamentary elections in Montenegro are to be held on 14 October. Will you vote? %</a:t>
            </a:r>
            <a:endParaRPr b="0" lang="en-US" sz="24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69FC-F973-4B2F-8813-E620C3A890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Chart 6" descr=""/>
          <p:cNvPicPr/>
          <p:nvPr/>
        </p:nvPicPr>
        <p:blipFill>
          <a:blip r:embed="rId1"/>
          <a:stretch/>
        </p:blipFill>
        <p:spPr>
          <a:xfrm>
            <a:off x="822240" y="1407960"/>
            <a:ext cx="7858080" cy="4260960"/>
          </a:xfrm>
          <a:prstGeom prst="rect">
            <a:avLst/>
          </a:prstGeom>
          <a:ln w="0">
            <a:noFill/>
          </a:ln>
        </p:spPr>
      </p:pic>
      <p:pic>
        <p:nvPicPr>
          <p:cNvPr id="116" name="Chart 7" descr=""/>
          <p:cNvPicPr/>
          <p:nvPr/>
        </p:nvPicPr>
        <p:blipFill>
          <a:blip r:embed="rId2"/>
          <a:stretch/>
        </p:blipFill>
        <p:spPr>
          <a:xfrm>
            <a:off x="676440" y="1407960"/>
            <a:ext cx="80038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EED9-EEE5-432E-9D02-703729958C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042920" y="33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Arial"/>
              </a:rPr>
              <a:t>SAMPL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95280" y="1125360"/>
            <a:ext cx="8137440" cy="48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The sample is representative for all citizens over 18 years. It was realized in 16 municipalities: Bijelo Polje, Berane, Pljevlja, Podgorica, Niksic, Cetinje, Herceg Novi, Ulcinj, Bar, Tivat, Kotor, Rozaje, Plav, Zabljak, Kolasin, Pluzine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Total of 1022 of respondents participated in the research survey.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Sample: double stratified with random selection of respondents within defined enumeration areas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Standard statistical error is +/- 3.05% for the appearances with incidence of 50% with interval of trust of 95%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Post stratification was performed by gender/sex, age and national affiliation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The research was conducted in the period from 23 – 30 September 2012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F290-8BD4-4F18-8AE9-C1064DC79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42920" y="115920"/>
            <a:ext cx="728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RANKING OF POLITICAL PARTIES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% AFFILIATED VOTERS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Chart 4" descr=""/>
          <p:cNvPicPr/>
          <p:nvPr/>
        </p:nvPicPr>
        <p:blipFill>
          <a:blip r:embed="rId1"/>
          <a:stretch/>
        </p:blipFill>
        <p:spPr>
          <a:xfrm>
            <a:off x="171360" y="1262160"/>
            <a:ext cx="8508960" cy="433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179280" y="5732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* None of the total of 1022 respondents had circled  the list Serbian National Alliance</a:t>
            </a:r>
            <a:endParaRPr b="0" i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1FA4-B6FF-45B2-B405-EC497D2484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71640" y="0"/>
            <a:ext cx="741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1f20"/>
                </a:solidFill>
                <a:latin typeface="Arial"/>
              </a:rPr>
              <a:t>RANKING OF POLITICAL PARTIES </a:t>
            </a:r>
            <a:endParaRPr b="0" i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1f20"/>
                </a:solidFill>
                <a:latin typeface="Arial"/>
              </a:rPr>
              <a:t>with confidence interval of </a:t>
            </a:r>
            <a:r>
              <a:rPr b="1" lang="en-US" sz="2500" spc="-1" strike="noStrike">
                <a:solidFill>
                  <a:srgbClr val="231f20"/>
                </a:solidFill>
                <a:latin typeface="Arial"/>
              </a:rPr>
              <a:t>95 %</a:t>
            </a:r>
            <a:endParaRPr b="0" i="1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341360"/>
          <a:ext cx="8280360" cy="4176720"/>
        </p:xfrm>
        <a:graphic>
          <a:graphicData uri="http://schemas.openxmlformats.org/drawingml/2006/table">
            <a:tbl>
              <a:tblPr/>
              <a:tblGrid>
                <a:gridCol w="5329080"/>
                <a:gridCol w="1584360"/>
                <a:gridCol w="1366920"/>
              </a:tblGrid>
              <a:tr h="83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OM %</a:t>
                      </a:r>
                      <a:endParaRPr b="0" i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%</a:t>
                      </a:r>
                      <a:endParaRPr b="0" i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lition European Montenegro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2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mocratic Front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9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7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4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ve Montenegro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3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0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E40-BA1D-4BDD-A803-305510B31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00080" y="712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In general, would you say that Montenegro is on the </a:t>
            </a:r>
            <a:r>
              <a:rPr b="0" lang="pl-PL" sz="2800" spc="-1" strike="noStrike">
                <a:solidFill>
                  <a:srgbClr val="231f20"/>
                </a:solidFill>
                <a:latin typeface="Arial"/>
              </a:rPr>
              <a:t> - %</a:t>
            </a:r>
            <a:r>
              <a:rPr b="0" i="1" lang="en-US" sz="2800" spc="-1" strike="noStrike">
                <a:solidFill>
                  <a:srgbClr val="231f2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Chart 7" descr=""/>
          <p:cNvPicPr/>
          <p:nvPr/>
        </p:nvPicPr>
        <p:blipFill>
          <a:blip r:embed="rId1"/>
          <a:stretch/>
        </p:blipFill>
        <p:spPr>
          <a:xfrm>
            <a:off x="676440" y="1335240"/>
            <a:ext cx="77184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4A7-C840-40CE-83D6-A54B6E7826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42920" y="33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Montenegro is on the</a:t>
            </a:r>
            <a:r>
              <a:rPr b="1" lang="pl-PL" sz="2800" spc="-1" strike="noStrike">
                <a:solidFill>
                  <a:srgbClr val="231f2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231f20"/>
                </a:solidFill>
                <a:latin typeface="Arial"/>
              </a:rPr>
              <a:t>TREND</a:t>
            </a:r>
            <a:r>
              <a:rPr b="1" lang="pl-PL" sz="2800" spc="-1" strike="noStrike">
                <a:solidFill>
                  <a:srgbClr val="231f20"/>
                </a:solidFill>
                <a:latin typeface="Arial"/>
              </a:rPr>
              <a:t>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hart 4" descr=""/>
          <p:cNvPicPr/>
          <p:nvPr/>
        </p:nvPicPr>
        <p:blipFill>
          <a:blip r:embed="rId1"/>
          <a:stretch/>
        </p:blipFill>
        <p:spPr>
          <a:xfrm>
            <a:off x="463680" y="1407960"/>
            <a:ext cx="8143920" cy="440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8F5-745A-49DE-87A0-1DF49302B4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14280" y="14292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CONFIDENCE IN INSTITUTIONS </a:t>
            </a:r>
            <a:r>
              <a:rPr b="0" lang="pl-PL" sz="2400" spc="-1" strike="noStrike">
                <a:solidFill>
                  <a:srgbClr val="231f20"/>
                </a:solidFill>
                <a:latin typeface="Arial"/>
              </a:rPr>
              <a:t>– S</a:t>
            </a:r>
            <a:r>
              <a:rPr b="0" lang="en-GB" sz="2400" spc="-1" strike="noStrike">
                <a:solidFill>
                  <a:srgbClr val="231f20"/>
                </a:solidFill>
                <a:latin typeface="Arial"/>
              </a:rPr>
              <a:t>UM</a:t>
            </a:r>
            <a:r>
              <a:rPr b="0" lang="pl-PL" sz="24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231f20"/>
                </a:solidFill>
                <a:latin typeface="Arial"/>
              </a:rPr>
              <a:t>high confidence and mostly confidence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%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Chart 6" descr=""/>
          <p:cNvPicPr/>
          <p:nvPr/>
        </p:nvPicPr>
        <p:blipFill>
          <a:blip r:embed="rId1"/>
          <a:stretch/>
        </p:blipFill>
        <p:spPr>
          <a:xfrm>
            <a:off x="317520" y="1262160"/>
            <a:ext cx="83628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8964-45BF-4BF9-A3B1-25E582E94A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87280" y="115920"/>
            <a:ext cx="67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CONFIDENCE IN INSTITUTIONS </a:t>
            </a:r>
            <a:r>
              <a:rPr b="0" lang="pl-PL" sz="2800" spc="-1" strike="noStrike">
                <a:solidFill>
                  <a:srgbClr val="231f20"/>
                </a:solidFill>
                <a:latin typeface="Arial"/>
              </a:rPr>
              <a:t>– </a:t>
            </a:r>
            <a:r>
              <a:rPr b="1" lang="pl-PL" sz="2800" spc="-1" strike="noStrike">
                <a:solidFill>
                  <a:srgbClr val="231f20"/>
                </a:solidFill>
                <a:latin typeface="Arial"/>
              </a:rPr>
              <a:t>TREND</a:t>
            </a:r>
            <a:r>
              <a:rPr b="1" lang="en-US" sz="2800" spc="-1" strike="noStrike">
                <a:solidFill>
                  <a:srgbClr val="231f20"/>
                </a:solidFill>
                <a:latin typeface="Arial"/>
              </a:rPr>
              <a:t>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125360"/>
          <a:ext cx="8424720" cy="4753080"/>
        </p:xfrm>
        <a:graphic>
          <a:graphicData uri="http://schemas.openxmlformats.org/drawingml/2006/table">
            <a:tbl>
              <a:tblPr/>
              <a:tblGrid>
                <a:gridCol w="3089160"/>
                <a:gridCol w="1074600"/>
                <a:gridCol w="1114560"/>
                <a:gridCol w="1103400"/>
                <a:gridCol w="877680"/>
                <a:gridCol w="1165320"/>
              </a:tblGrid>
              <a:tr h="59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mber 201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tember 20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ember 20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ly 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tember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of Montenegr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dent of Montenegr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,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iament of Montenegr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diciary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,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n Orthodox Church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,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1,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in Orthodox Church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y of Montenegro 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,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,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parties in Montenegr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ystem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6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,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3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system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,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7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,2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4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,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,5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O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8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1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,3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,9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2966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 society organisation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DAD-0176-47D9-AC7D-C75EE4358D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142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re you satisfied with Igor Luksic’s  Government performance so far</a:t>
            </a:r>
            <a:r>
              <a:rPr b="0" lang="sr-Latn-CS" sz="2400" spc="-1" strike="noStrike">
                <a:solidFill>
                  <a:srgbClr val="231f20"/>
                </a:solidFill>
                <a:latin typeface="Arial"/>
              </a:rPr>
              <a:t>? - %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Chart 4" descr=""/>
          <p:cNvPicPr/>
          <p:nvPr/>
        </p:nvPicPr>
        <p:blipFill>
          <a:blip r:embed="rId1"/>
          <a:stretch/>
        </p:blipFill>
        <p:spPr>
          <a:xfrm>
            <a:off x="463680" y="1335240"/>
            <a:ext cx="785808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38D-D929-402B-B93B-29688175AB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755640" y="26028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POLITICIANS’ POPULARITY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619280" y="5661000"/>
            <a:ext cx="3600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31f20"/>
                </a:solidFill>
                <a:latin typeface="Times New Roman"/>
              </a:rPr>
              <a:t>Mean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292720" y="5589720"/>
            <a:ext cx="2374920" cy="55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231f20"/>
                </a:solidFill>
                <a:latin typeface="Times New Roman"/>
              </a:rPr>
              <a:t>1 – minimum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231f20"/>
                </a:solidFill>
                <a:latin typeface="Times New Roman"/>
              </a:rPr>
              <a:t>5 - maximum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Chart 8" descr=""/>
          <p:cNvPicPr/>
          <p:nvPr/>
        </p:nvPicPr>
        <p:blipFill>
          <a:blip r:embed="rId1"/>
          <a:stretch/>
        </p:blipFill>
        <p:spPr>
          <a:xfrm>
            <a:off x="536400" y="1262160"/>
            <a:ext cx="8004240" cy="42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015F-03CA-40A5-9C32-EB357DF3F4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26880" y="91584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042920" y="333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31f20"/>
                </a:solidFill>
                <a:latin typeface="Arial"/>
              </a:rPr>
              <a:t>CONFIDENCE IN TV STATIONS </a:t>
            </a:r>
            <a:r>
              <a:rPr b="0" lang="sr-Latn-CS" sz="2800" spc="-1" strike="noStrike">
                <a:solidFill>
                  <a:srgbClr val="231f20"/>
                </a:solidFill>
                <a:latin typeface="Arial"/>
              </a:rPr>
              <a:t>- %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Chart 6" descr=""/>
          <p:cNvPicPr/>
          <p:nvPr/>
        </p:nvPicPr>
        <p:blipFill>
          <a:blip r:embed="rId1"/>
          <a:stretch/>
        </p:blipFill>
        <p:spPr>
          <a:xfrm>
            <a:off x="749160" y="1407960"/>
            <a:ext cx="749952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2:54:28Z</dcterms:created>
  <dc:creator>Info</dc:creator>
  <dc:description/>
  <dc:language>en-US</dc:language>
  <cp:lastModifiedBy>Win7</cp:lastModifiedBy>
  <dcterms:modified xsi:type="dcterms:W3CDTF">2012-10-03T07:51:51Z</dcterms:modified>
  <cp:revision>1020</cp:revision>
  <dc:subject/>
  <dc:title>Slide 1</dc:title>
</cp:coreProperties>
</file>